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6DE-26BB-47BA-BA1D-0776D666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BA7-98BA-4A1F-8C5A-5B73F4F9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DEEC-A141-40BF-8FB9-1D406B3D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D9F3-C65A-489E-A60B-20117450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22C-2AB6-4C06-A068-766E1A0A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5A78-2E74-42FC-9B7B-86B9E8FB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CEA-8FE7-4CF0-A5A3-357DEE35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F92B-F83C-4780-99C1-FB9310CC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46D8-CB46-4C12-B4E7-95FFB96D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543B-8FDF-43E0-8577-44E5A143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6DF-1A28-4EBD-A2E5-824A235A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9BFA-1B23-4BEF-BB57-8CBA8BB0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F115-5423-4B49-8B40-EB7678A57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opnews.in/uploads/pregnant-woman2.jpg&amp;imgrefurl=http://www.topnews.in/study-depression-during-pregnancy-can-retard-growth-child-250061&amp;usg=__G0J3WIV36bouKA5MC8n1bWjStHQ=&amp;h=236&amp;w=260&amp;sz=17&amp;hl=en&amp;start=44&amp;zoom=1&amp;um=1&amp;itbs=1&amp;tbnid=lu7a8loEZUJyWM:&amp;tbnh=102&amp;tbnw=112&amp;prev=/images?q=pregnant+mother&amp;start=40&amp;um=1&amp;hl=en&amp;sa=N&amp;ndsp=20&amp;tbs=isch:1" TargetMode="External"/><Relationship Id="rId2" Type="http://schemas.openxmlformats.org/officeDocument/2006/relationships/hyperlink" Target="http://www.google.com/imgres?imgurl=http://www.topnews.in/uploads/pregnant-woman2.jpg&amp;imgrefurl=http://www.topnews.in/study-depression-during-pregnancy-can-retard-growth-child-250061&amp;usg=__G0J3WIV36bouKA5MC8n1bWjStHQ=&amp;h=236&amp;w=260&amp;sz=17&amp;hl=en&amp;start=44&amp;zoom=1&amp;um=1&amp;itbs=1&amp;tbnid=lu7a8loEZUJyWM:&amp;tbnh=102&amp;tbnw=112&amp;prev=/images?q=pregnant+mother&amp;start=40&amp;um=1&amp;hl=en&amp;sa=N&amp;ndsp=20&amp;tbs=isch:1" TargetMode="External"/><Relationship Id="rId3" Type="http://schemas.openxmlformats.org/officeDocument/2006/relationships/hyperlink" Target="http://4.bp.blogspot.com/_5E_qiRhuut4/THlcnHd8vUI/AAAAAAAABPE/5XrvIiX9Q7g/s1600/Liar+Liar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opnews.in/uploads/pregnant-woman2.jpg&amp;imgrefurl=http://www.topnews.in/study-depression-during-pregnancy-can-retard-growth-child-250061&amp;usg=__G0J3WIV36bouKA5MC8n1bWjStHQ=&amp;h=236&amp;w=260&amp;sz=17&amp;hl=en&amp;start=44&amp;zoom=1&amp;um=1&amp;itbs=1&amp;tbnid=lu7a8loEZUJyWM:&amp;tbnh=102&amp;tbnw=112&amp;prev=/images?q=pregnant+mother&amp;start=40&amp;um=1&amp;hl=en&amp;sa=N&amp;ndsp=20&amp;tbs=isch:1" TargetMode="External"/><Relationship Id="rId2" Type="http://schemas.openxmlformats.org/officeDocument/2006/relationships/hyperlink" Target="http://www.google.com/imgres?imgurl=http://www.topnews.in/uploads/pregnant-woman2.jpg&amp;imgrefurl=http://www.topnews.in/study-depression-during-pregnancy-can-retard-growth-child-250061&amp;usg=__G0J3WIV36bouKA5MC8n1bWjStHQ=&amp;h=236&amp;w=260&amp;sz=17&amp;hl=en&amp;start=44&amp;zoom=1&amp;um=1&amp;itbs=1&amp;tbnid=lu7a8loEZUJyWM:&amp;tbnh=102&amp;tbnw=112&amp;prev=/images?q=pregnant+mother&amp;start=40&amp;um=1&amp;hl=en&amp;sa=N&amp;ndsp=20&amp;tbs=isch:1" TargetMode="External"/><Relationship Id="rId3" Type="http://schemas.openxmlformats.org/officeDocument/2006/relationships/hyperlink" Target="http://xe9.xanga.com/7fbf602359536239288279/b189269737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opnews.in/uploads/pregnant-woman2.jpg&amp;imgrefurl=http://www.topnews.in/study-depression-during-pregnancy-can-retard-growth-child-250061&amp;usg=__G0J3WIV36bouKA5MC8n1bWjStHQ=&amp;h=236&amp;w=260&amp;sz=17&amp;hl=en&amp;start=44&amp;zoom=1&amp;um=1&amp;itbs=1&amp;tbnid=lu7a8loEZUJyWM:&amp;tbnh=102&amp;tbnw=112&amp;prev=/images?q=pregnant+mother&amp;start=40&amp;um=1&amp;hl=en&amp;sa=N&amp;ndsp=20&amp;tbs=isch:1" TargetMode="External"/><Relationship Id="rId2" Type="http://schemas.openxmlformats.org/officeDocument/2006/relationships/hyperlink" Target="http://www.google.com/imgres?imgurl=http://www.topnews.in/uploads/pregnant-woman2.jpg&amp;imgrefurl=http://www.topnews.in/study-depression-during-pregnancy-can-retard-growth-child-250061&amp;usg=__G0J3WIV36bouKA5MC8n1bWjStHQ=&amp;h=236&amp;w=260&amp;sz=17&amp;hl=en&amp;start=44&amp;zoom=1&amp;um=1&amp;itbs=1&amp;tbnid=lu7a8loEZUJyWM:&amp;tbnh=102&amp;tbnw=112&amp;prev=/images?q=pregnant+mother&amp;start=40&amp;um=1&amp;hl=en&amp;sa=N&amp;ndsp=20&amp;tbs=isch: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opnews.in/uploads/pregnant-woman2.jpg&amp;imgrefurl=http://www.topnews.in/study-depression-during-pregnancy-can-retard-growth-child-250061&amp;usg=__G0J3WIV36bouKA5MC8n1bWjStHQ=&amp;h=236&amp;w=260&amp;sz=17&amp;hl=en&amp;start=44&amp;zoom=1&amp;um=1&amp;itbs=1&amp;tbnid=lu7a8loEZUJyWM:&amp;tbnh=102&amp;tbnw=112&amp;prev=/images?q=pregnant+mother&amp;start=40&amp;um=1&amp;hl=en&amp;sa=N&amp;ndsp=20&amp;tbs=isch:1" TargetMode="External"/><Relationship Id="rId2" Type="http://schemas.openxmlformats.org/officeDocument/2006/relationships/hyperlink" Target="http://www.google.com/imgres?imgurl=http://www.topnews.in/uploads/pregnant-woman2.jpg&amp;imgrefurl=http://www.topnews.in/study-depression-during-pregnancy-can-retard-growth-child-250061&amp;usg=__G0J3WIV36bouKA5MC8n1bWjStHQ=&amp;h=236&amp;w=260&amp;sz=17&amp;hl=en&amp;start=44&amp;zoom=1&amp;um=1&amp;itbs=1&amp;tbnid=lu7a8loEZUJyWM:&amp;tbnh=102&amp;tbnw=112&amp;prev=/images?q=pregnant+mother&amp;start=40&amp;um=1&amp;hl=en&amp;sa=N&amp;ndsp=20&amp;tbs=isch:1" TargetMode="External"/><Relationship Id="rId3" Type="http://schemas.openxmlformats.org/officeDocument/2006/relationships/hyperlink" Target="http://www.pickthebrain.com/blog/wp-content/images/feeling_embarrassed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opnews.in/uploads/pregnant-woman2.jpg&amp;imgrefurl=http://www.topnews.in/study-depression-during-pregnancy-can-retard-growth-child-250061&amp;usg=__G0J3WIV36bouKA5MC8n1bWjStHQ=&amp;h=236&amp;w=260&amp;sz=17&amp;hl=en&amp;start=44&amp;zoom=1&amp;um=1&amp;itbs=1&amp;tbnid=lu7a8loEZUJyWM:&amp;tbnh=102&amp;tbnw=112&amp;prev=/images?q=pregnant+mother&amp;start=40&amp;um=1&amp;hl=en&amp;sa=N&amp;ndsp=20&amp;tbs=isch:1" TargetMode="External"/><Relationship Id="rId2" Type="http://schemas.openxmlformats.org/officeDocument/2006/relationships/hyperlink" Target="http://www.google.com/imgres?imgurl=http://www.topnews.in/uploads/pregnant-woman2.jpg&amp;imgrefurl=http://www.topnews.in/study-depression-during-pregnancy-can-retard-growth-child-250061&amp;usg=__G0J3WIV36bouKA5MC8n1bWjStHQ=&amp;h=236&amp;w=260&amp;sz=17&amp;hl=en&amp;start=44&amp;zoom=1&amp;um=1&amp;itbs=1&amp;tbnid=lu7a8loEZUJyWM:&amp;tbnh=102&amp;tbnw=112&amp;prev=/images?q=pregnant+mother&amp;start=40&amp;um=1&amp;hl=en&amp;sa=N&amp;ndsp=20&amp;tbs=isch:1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opnews.in/uploads/pregnant-woman2.jpg&amp;imgrefurl=http://www.topnews.in/study-depression-during-pregnancy-can-retard-growth-child-250061&amp;usg=__G0J3WIV36bouKA5MC8n1bWjStHQ=&amp;h=236&amp;w=260&amp;sz=17&amp;hl=en&amp;start=44&amp;zoom=1&amp;um=1&amp;itbs=1&amp;tbnid=lu7a8loEZUJyWM:&amp;tbnh=102&amp;tbnw=112&amp;prev=/images?q=pregnant+mother&amp;start=40&amp;um=1&amp;hl=en&amp;sa=N&amp;ndsp=20&amp;tbs=isch:1" TargetMode="External"/><Relationship Id="rId2" Type="http://schemas.openxmlformats.org/officeDocument/2006/relationships/hyperlink" Target="http://www.google.com/imgres?imgurl=http://www.topnews.in/uploads/pregnant-woman2.jpg&amp;imgrefurl=http://www.topnews.in/study-depression-during-pregnancy-can-retard-growth-child-250061&amp;usg=__G0J3WIV36bouKA5MC8n1bWjStHQ=&amp;h=236&amp;w=260&amp;sz=17&amp;hl=en&amp;start=44&amp;zoom=1&amp;um=1&amp;itbs=1&amp;tbnid=lu7a8loEZUJyWM:&amp;tbnh=102&amp;tbnw=112&amp;prev=/images?q=pregnant+mother&amp;start=40&amp;um=1&amp;hl=en&amp;sa=N&amp;ndsp=20&amp;tbs=isch:1" TargetMode="External"/><Relationship Id="rId3" Type="http://schemas.openxmlformats.org/officeDocument/2006/relationships/hyperlink" Target="http://www.fotosearch.com/bthumb/IMP/IMP205/1525R-143528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5211720"/>
          </a:xfrm>
          <a:prstGeom prst="rect">
            <a:avLst/>
          </a:prstGeom>
          <a:solidFill>
            <a:srgbClr val="ff0000"/>
          </a:solidFill>
          <a:ln w="9360">
            <a:solidFill>
              <a:srgbClr val="800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ookman Old Style"/>
              </a:rPr>
              <a:t>“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Bookman Old Style"/>
              </a:rPr>
              <a:t>Black and White”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Anticipation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rets are private things and should never be told under any circumstances.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True     Fa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ww11-secret"/>
          <p:cNvPicPr/>
          <p:nvPr/>
        </p:nvPicPr>
        <p:blipFill>
          <a:blip r:embed="rId1"/>
          <a:stretch/>
        </p:blipFill>
        <p:spPr>
          <a:xfrm>
            <a:off x="155520" y="25909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a person refuses to tell the truth, it is better to keep silent than to tell a lie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>
            <a:hlinkClick r:id="rId1"/>
          </p:cNvPr>
          <p:cNvSpPr/>
          <p:nvPr/>
        </p:nvSpPr>
        <p:spPr>
          <a:xfrm>
            <a:off x="155520" y="46080"/>
            <a:ext cx="1066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>
            <a:hlinkClick r:id="rId2"/>
          </p:cNvPr>
          <p:cNvSpPr/>
          <p:nvPr/>
        </p:nvSpPr>
        <p:spPr>
          <a:xfrm>
            <a:off x="228600" y="46080"/>
            <a:ext cx="1066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22096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are 2 sides to every story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">
            <a:hlinkClick r:id="rId1"/>
          </p:cNvPr>
          <p:cNvSpPr/>
          <p:nvPr/>
        </p:nvSpPr>
        <p:spPr>
          <a:xfrm>
            <a:off x="155520" y="46080"/>
            <a:ext cx="1066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>
            <a:hlinkClick r:id="rId2"/>
          </p:cNvPr>
          <p:cNvSpPr/>
          <p:nvPr/>
        </p:nvSpPr>
        <p:spPr>
          <a:xfrm>
            <a:off x="228600" y="46080"/>
            <a:ext cx="1066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33720" y="1878120"/>
            <a:ext cx="51814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okay to let someone else take the blame for something you are responsible for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">
            <a:hlinkClick r:id="rId1"/>
          </p:cNvPr>
          <p:cNvSpPr/>
          <p:nvPr/>
        </p:nvSpPr>
        <p:spPr>
          <a:xfrm>
            <a:off x="155520" y="46080"/>
            <a:ext cx="1066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>
            <a:hlinkClick r:id="rId2"/>
          </p:cNvPr>
          <p:cNvSpPr/>
          <p:nvPr/>
        </p:nvSpPr>
        <p:spPr>
          <a:xfrm>
            <a:off x="228600" y="46080"/>
            <a:ext cx="1066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2009-08-07-blame_toon_andGrantCardone"/>
          <p:cNvPicPr/>
          <p:nvPr/>
        </p:nvPicPr>
        <p:blipFill>
          <a:blip r:embed="rId3"/>
          <a:stretch/>
        </p:blipFill>
        <p:spPr>
          <a:xfrm>
            <a:off x="457200" y="2286000"/>
            <a:ext cx="36576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embarrassing to be ridiculed by people.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>
            <a:hlinkClick r:id="rId1"/>
          </p:cNvPr>
          <p:cNvSpPr/>
          <p:nvPr/>
        </p:nvSpPr>
        <p:spPr>
          <a:xfrm>
            <a:off x="155520" y="46080"/>
            <a:ext cx="1066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>
            <a:hlinkClick r:id="rId2"/>
          </p:cNvPr>
          <p:cNvSpPr/>
          <p:nvPr/>
        </p:nvSpPr>
        <p:spPr>
          <a:xfrm>
            <a:off x="228600" y="95400"/>
            <a:ext cx="10666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2971800"/>
            <a:ext cx="38098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mily should ALWAYS come before friends.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>
            <a:hlinkClick r:id="rId1"/>
          </p:cNvPr>
          <p:cNvSpPr/>
          <p:nvPr/>
        </p:nvSpPr>
        <p:spPr>
          <a:xfrm>
            <a:off x="155520" y="46080"/>
            <a:ext cx="1066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>
            <a:hlinkClick r:id="rId2"/>
          </p:cNvPr>
          <p:cNvSpPr/>
          <p:nvPr/>
        </p:nvSpPr>
        <p:spPr>
          <a:xfrm>
            <a:off x="228600" y="95400"/>
            <a:ext cx="10666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one has good in him or her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>
            <a:hlinkClick r:id="rId1"/>
          </p:cNvPr>
          <p:cNvSpPr/>
          <p:nvPr/>
        </p:nvSpPr>
        <p:spPr>
          <a:xfrm>
            <a:off x="155520" y="46080"/>
            <a:ext cx="1066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>
            <a:hlinkClick r:id="rId2"/>
          </p:cNvPr>
          <p:cNvSpPr/>
          <p:nvPr/>
        </p:nvSpPr>
        <p:spPr>
          <a:xfrm>
            <a:off x="228600" y="95400"/>
            <a:ext cx="10666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17524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REVENGE ever JUSTIFIED?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    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"/>
          <p:cNvSpPr/>
          <p:nvPr/>
        </p:nvSpPr>
        <p:spPr>
          <a:xfrm>
            <a:off x="155520" y="46080"/>
            <a:ext cx="1066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228600" y="95400"/>
            <a:ext cx="10666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2:00:43Z</dcterms:created>
  <dc:creator>BPS</dc:creator>
  <dc:description/>
  <dc:language>en-US</dc:language>
  <cp:lastModifiedBy>Teacher</cp:lastModifiedBy>
  <dcterms:modified xsi:type="dcterms:W3CDTF">2011-09-27T21:13:55Z</dcterms:modified>
  <cp:revision>16</cp:revision>
  <dc:subject/>
  <dc:title>Scarlet Letter  Anticipation Guide</dc:title>
</cp:coreProperties>
</file>